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BF2-B3E2-4DC4-A40C-AEE59434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021-3F57-439C-AE98-2DCC106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E1F-BAC9-4E8D-BECE-AA7E7E3A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09F-E412-499C-AF91-81724BBF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5BD-A97F-464E-A724-AB5242D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042-B151-466E-9798-1E6ACC5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9C1-9E71-4097-8B4C-7F22533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7EA-BDD4-44CF-8393-A23DC32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A06-2BB3-471D-AAC0-5CA64582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2F8-6D00-471E-8BC4-E5BF1AE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E7F-8220-4BC2-BF66-90C72AB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D8A-8B0B-496D-9A55-79A98CF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4355-CD85-48CC-825F-AB6DDF00D0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57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!PaulMaul Longs"/>
              </a:rPr>
              <a:t>Scenari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324000" y="5734080"/>
            <a:ext cx="5748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gent Orange"/>
                <a:ea typeface="Agent Orange"/>
              </a:rPr>
              <a:t>Textil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gent Orange"/>
                <a:ea typeface="Agent Orange"/>
              </a:rPr>
              <a:t>probl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01ta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01tama"/>
              </a:rPr>
              <a:t>The shipment cannot be sent to Singapore from cochin, because the cargo should be repackage from singapore and sent to Germany in two 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gent Orange"/>
                <a:ea typeface="Agent Orange"/>
              </a:rPr>
              <a:t>probl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01ta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01tama"/>
              </a:rPr>
              <a:t>The Logistics Manager is Responsible for both Singapore and German offi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gent Orange"/>
                <a:ea typeface="Agent Orange"/>
              </a:rPr>
              <a:t>21century skil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 and Ada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and Intellectual 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and System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Media Literac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dentification, Formulation, an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gent Orange"/>
                <a:ea typeface="Agent Orange"/>
              </a:rPr>
              <a:t>21century skil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ER</cp:lastModifiedBy>
  <dcterms:modified xsi:type="dcterms:W3CDTF">2012-06-28T00:42:19Z</dcterms:modified>
  <cp:revision>827</cp:revision>
  <dc:subject/>
  <dc:title>Diapositiva 1</dc:title>
</cp:coreProperties>
</file>